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2BF7C-B7BE-4DB7-ACEC-A610A5DB1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6DB5-7DAE-4694-9EF5-BDDCF537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9C772-B206-46C6-B47F-B92C2D582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D2928-52A1-405D-A351-8A1A643C1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65FA-A33B-45A5-B34C-92CC2F5D2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2C052-4BDF-4B01-A086-25FB5095E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61093-30DD-4D78-8639-C9BB6C506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1E21F-C619-4102-B2E4-8D8C0F372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1EC83-327E-410C-82DD-0FA655717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30DC7-B431-4E4A-B086-0BC1B3A4A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0FB56-BAF5-4011-A5AC-6A5178BC5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1BD82-A18F-4540-9679-B67F97AD7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3372-CF7D-4B61-966B-24E2FB4F475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76E89CEF-AF4C-4A93-89F8-C0A43F60912F}" type="datetime2">
              <a:rPr b="0" lang="en-GB" sz="4000" spc="-1" strike="noStrike" u="sng">
                <a:solidFill>
                  <a:srgbClr val="000000"/>
                </a:solidFill>
                <a:uFillTx/>
                <a:latin typeface="Arial"/>
                <a:ea typeface="Verdana"/>
              </a:rPr>
              <a:t>Wednesday 29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